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E8B9-6F36-4E09-843C-CDE4E56E0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F3A-1625-4B5E-87FE-34F2E98E86C6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514-1E05-4BC2-84D0-53FBE459B74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B910-4E00-477A-8206-868B487F027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36B-5EA0-4FB9-B585-0D2C77F3FA0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7026-82CF-4CBE-ADE7-1AE33FC13D9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DD4-3F16-4533-90ED-E59E564AC1D7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70A-1DA9-4F43-932F-F11803B7FA65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325-2C26-4702-B760-4E074BDC909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AA48-67DC-48CD-8A87-99466CEA3D9B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65B-A94B-47A2-96E8-49D34DAF61F2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AF7-C8D1-46D7-A761-081AB22864FE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703-ABCD-435B-9FDD-E6AE40912574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AE5-4DB3-4AAE-8A77-37EE7F26C298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744-8FAE-4D56-A9BF-CE68AEE3A400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C3D-0AE6-44C4-BC2F-1EB549C71937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3232-FBC0-426C-A7D6-2EA501F83302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CB3-96CB-4817-B928-F54169609DF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2F61-1F42-4F3C-93CB-2BE4C39BA4C0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66A8-000D-44CC-B7CE-6BA746B49904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8E7-2BB6-4478-9CD8-F3B4205633AE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95F-B76D-4407-B5BD-084621FD8780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EEE-588D-4737-A87D-1271B12ABEB1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75C0-DEDF-4C78-B68F-F6C3991D8C0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AD5E-2B31-44CC-B5C9-D079F65BC8C7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652-D4B1-4582-8425-C1843B393ECE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2D5-1BDA-4151-B4A8-840301BEE712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D65-41B5-4E1F-AB36-88AF8316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3AC-6CB0-4A22-89D2-FA63398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44C-076B-4B5B-92AA-BDD20E25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A3F-4A6C-4368-8C74-1FCA70C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BEB5-ADDC-473C-AB24-A2E9D76E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C2C-D817-4237-8575-F03E49F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6F3-702F-4FAE-90C3-6E06BBD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526-3764-40D0-BBF4-BCF1596D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208-C48D-4700-B3AA-665434D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784-68EA-4BBC-90D8-428639F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013-4CB8-401D-9F39-C348ED63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BCF-05FD-45CC-BDAF-DBFBCEB4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12C-5397-451F-9512-ECFF4DF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8531-E5E6-4F4C-9BB2-FFDC40D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34D1-4C6D-4C85-A5B3-09F7D200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F4AA-AFA7-4E80-A6A7-F946D0D6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1C7-3C69-4238-865F-9A6563B6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D42-03CD-4B2E-A884-86E6005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42D-FC12-44A5-BF39-1F1F266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175-BB9C-40F0-85A4-237085A5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829-477C-48AE-A549-7C299947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BA-A30F-471E-AE52-0FE288A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480-B366-4ADD-9D45-772865C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BB9-D360-4BC1-8D37-34D6CD0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2947-11CE-4EE4-8F08-AA566EC9D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uncolor"/>
          <p:cNvPicPr/>
          <p:nvPr/>
        </p:nvPicPr>
        <p:blipFill>
          <a:blip r:embed="rId2"/>
          <a:stretch/>
        </p:blipFill>
        <p:spPr>
          <a:xfrm>
            <a:off x="4419720" y="6477120"/>
            <a:ext cx="3524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uncolor"/>
          <p:cNvPicPr/>
          <p:nvPr/>
        </p:nvPicPr>
        <p:blipFill>
          <a:blip r:embed="rId2"/>
          <a:stretch/>
        </p:blipFill>
        <p:spPr>
          <a:xfrm>
            <a:off x="3962520" y="762120"/>
            <a:ext cx="14112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NEFC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65D-3341-4463-9B41-2EDF3CC1664D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4114800" y="61722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Responsive Classroo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Sampl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esented by: Andrew Mor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Responsive Classroom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052800" y="2895480"/>
            <a:ext cx="32767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Guiding Principles: </a:t>
            </a:r>
            <a:br>
              <a:rPr sz="4000"/>
            </a:b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Digging Deeper Museum Walk &amp; Dinner Break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What do you notice about these examples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What was interesting to you about this activity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Oliver Twis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liver twist, twist, twist (hands on hip and twist body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an’t do this, this, this (Tap right foot and shake forefinger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head, head, head (Touch head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nose, nose, nose (Touch nose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ears, ears, ears (Touch ear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toes, toes, toes (Touch toe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at is Interactive Modeling?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chnique for teaching procedures, skills, and routines that the teacher expects to be done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, and only one w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hows students exactly how to do what we expec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tive learning that include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Observ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sponding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earch that supports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. Jensen (2005):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commends that teachers actively engage students, provide them, with interesting practice or repetition to learn skill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. Bandura (197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pports the idea that humans (and children) develop behaviors when they pay attention to a model, can retain and imitate what they see, and receive feedback about their behavi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.J. Marzano (200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mmarizes research on effective teaching practices, including the power of stopping during demonstrations to ask students for their observations or when practicing a procedural skil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y Interactive Modeling Work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learn why the routine or skill is importan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create a clear image of what’s expect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do the noticing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have the chance to practice and gain expertis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receive immediate feedback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can be used to teach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outin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s for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scribe a positiv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students what they notic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Volunteers 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peat step 3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practice—teacher observes &amp; coaches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1: Say what you will model and wh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an exactly what you will s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Keep it brief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ositive wording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fer to the class (school) ru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2: Model the Behavior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the </a:t>
            </a:r>
            <a:r>
              <a:rPr b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behavior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ay silent as you mod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ll students to notice what you mod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3: Ask students what they noticed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pen-ended ques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a follow-up question if need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mphasize what to do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frame “You Didn’ts” to “You Dids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r example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tudent: “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You didn’t run.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eacher:  “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So, how did I get there?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oals for today’s workshop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come familiar with the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velop understanding of two proactive discipline strategies: Morning Meeting &amp; Interactive Model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resources to further develop understanding of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4: Invite one or more students to model.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lect students who will repeat your demonstratio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33"/>
                </a:solidFill>
                <a:latin typeface="Arial"/>
              </a:rPr>
              <a:t>Who would like to demonstrate how to multiply fractions using the method I showed?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stead of: </a:t>
            </a:r>
            <a:r>
              <a:rPr b="0" i="1" lang="en-US" sz="1400" spc="-1" strike="noStrike">
                <a:solidFill>
                  <a:srgbClr val="333333"/>
                </a:solidFill>
                <a:latin typeface="Arial"/>
              </a:rPr>
              <a:t>Who else can show us how to multiply fractions?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(too wide-open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Have the demonstrator tell you what he/she will do before modeling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5: Again, ask the students what they noticed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6: Have all students practic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read out this practice if need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cus on progress, not perfec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7: Provide Feedback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ame the specific, positive actions you notic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direct students respectfully but clearl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Video Clips of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choose a partn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go to timeout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sit in a circ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use scissors safel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ossible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assroom Routines-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sponding to signal for quiet, where/how to sit, showing what active listening looks like, signaling a desire to speak during a discussion, chatting with a partner, what to do if you need help, independent work time routin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ransition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utting/taking materials away/out, reading/interacting with the Morning Message, handling homework, signing up for lun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rking with supplies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ath manipulatives, 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Journeys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small group readers, colored pencils, scissor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cademic/Social Skill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sk questions, partner chat, head one’s paper, fill out/check an answer, take note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e the book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Interactive Modeling: A Powerful Technique for Teaching Children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     by: Margaret Wilso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y Bonn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sea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,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,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outines &amp; Ritual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 each ritual/routine, be looking for what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 behaviors students need to know or exhibit to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 successful at that time of d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rrival Tim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gna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nergizer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iddle of the d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nd of the d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lanning Guide for 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y is this behavior or skill importan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’s the learning goal for students- what do you want them to be able to do as a result of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introduce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exactly will you model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details do you want students to notice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coach students as they practice?  What things might go wrong and how will you respond if they do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materials or additional support (if any) do you need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follow up with this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teractive Modeling Planning Shee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osing Circl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is something you learned tonight that you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nt to take back to your own classroom?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roduction to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esponsive Classroom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7 Guiding Principles of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Dinner Break/ Museum Walk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eractive Modeling demonstration &amp; applica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losing Circ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ortheast Foundation Websit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Youtube Chann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rew Moral: amoral@crsd.or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orning Meet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et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ner Ch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har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ust Like Me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ands u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Hands Up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ands up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2013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onna nam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me _____ / /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(Categories such as rivers, states, animals, etc.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e apiec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repeats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hesit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duplic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tarting with 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roduction to </a:t>
            </a:r>
            <a:br>
              <a:rPr sz="4400"/>
            </a:b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is th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approach?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9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does it look like in a school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12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professional development services are availabl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5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uiding Principles of </a:t>
            </a: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cial curriculum = academic curriculum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children learn = what they lear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atest cognitive growth occurs through social intera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R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the children = knowing the conten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families is essential to children’s educ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adults work together = individual competen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eaching Practi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ing Ru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active Model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eacher Langu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ogical Consequenc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Guided Discover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Cho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assroom Organiz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orking with Fami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llaborative Problem-Solv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Guiding Principles: Digging Deeper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Read a card as a group &amp; decide: 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relevant principl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pport/not support principl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Place tape on back of card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Place on selected principle &amp; column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Repeat for remaining cards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35:13Z</dcterms:created>
  <dc:creator>lynn</dc:creator>
  <dc:description/>
  <dc:language>en-US</dc:language>
  <cp:lastModifiedBy>Moral, Andrew</cp:lastModifiedBy>
  <dcterms:modified xsi:type="dcterms:W3CDTF">2013-04-03T15:12:00Z</dcterms:modified>
  <cp:revision>47</cp:revision>
  <dc:subject/>
  <dc:title>Responsive Classroom</dc:title>
</cp:coreProperties>
</file>